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34327C49-7B98-4AAE-B8C5-DBEF82AAFB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17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43520" cy="37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2978280" y="554040"/>
            <a:ext cx="3644640" cy="27320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895320" y="752400"/>
            <a:ext cx="4951440" cy="37148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69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65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69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65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598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646280" y="637524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904D86A6-5A8F-4827-976E-3180BDE9E4D6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Programmeerimiskee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388800" y="247680"/>
            <a:ext cx="87170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ryant &amp; Hallaron course) Static L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04640" y="1143000"/>
            <a:ext cx="7772400" cy="1295280"/>
          </a:xfrm>
          <a:prstGeom prst="rect">
            <a:avLst/>
          </a:prstGeom>
          <a:noFill/>
          <a:ln cap="sq" w="9360">
            <a:solidFill>
              <a:srgbClr val="000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4800" indent="-33012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grams are translated and linked using a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compiler driv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gcc -O2 -g -o p main.c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./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3"/>
          <p:cNvSpPr/>
          <p:nvPr/>
        </p:nvSpPr>
        <p:spPr>
          <a:xfrm>
            <a:off x="2666880" y="3040200"/>
            <a:ext cx="180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057400" y="5097600"/>
            <a:ext cx="2971800" cy="36324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Linker 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ld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828800" y="3409920"/>
            <a:ext cx="1752480" cy="63756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265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2669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733920" y="3409920"/>
            <a:ext cx="1796760" cy="63756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4254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2037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3414600" y="5789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4659480" y="304020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2666880" y="4106880"/>
            <a:ext cx="180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4659480" y="410688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4659480" y="4716360"/>
            <a:ext cx="1440" cy="38124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3559320" y="548964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2666880" y="4716360"/>
            <a:ext cx="1800" cy="38124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5683320" y="271944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ource 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5621400" y="426420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eparately compi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relocatable object 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4355640" y="5483160"/>
            <a:ext cx="458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Fully linked executable object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(contains code and data for all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defined in main.c and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09480" y="1584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Static Linking and Lo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Group 2"/>
          <p:cNvGrpSpPr/>
          <p:nvPr/>
        </p:nvGrpSpPr>
        <p:grpSpPr>
          <a:xfrm>
            <a:off x="1695600" y="873000"/>
            <a:ext cx="5747760" cy="4907160"/>
            <a:chOff x="1695600" y="873000"/>
            <a:chExt cx="5747760" cy="4907160"/>
          </a:xfrm>
        </p:grpSpPr>
        <p:sp>
          <p:nvSpPr>
            <p:cNvPr id="113" name="Rectangle 3"/>
            <p:cNvSpPr/>
            <p:nvPr/>
          </p:nvSpPr>
          <p:spPr>
            <a:xfrm>
              <a:off x="1695600" y="873000"/>
              <a:ext cx="109332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09640" y="2279520"/>
              <a:ext cx="1062000" cy="5288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Rectangle 5"/>
            <p:cNvSpPr/>
            <p:nvPr/>
          </p:nvSpPr>
          <p:spPr>
            <a:xfrm>
              <a:off x="3257640" y="1482840"/>
              <a:ext cx="1062000" cy="68076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br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Line 6"/>
            <p:cNvSpPr/>
            <p:nvPr/>
          </p:nvSpPr>
          <p:spPr>
            <a:xfrm>
              <a:off x="2243160" y="1371600"/>
              <a:ext cx="0" cy="9032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 flipV="1">
              <a:off x="2795760" y="1931760"/>
              <a:ext cx="436320" cy="5936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237384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Rectangle 9"/>
            <p:cNvSpPr/>
            <p:nvPr/>
          </p:nvSpPr>
          <p:spPr>
            <a:xfrm>
              <a:off x="2812320" y="2293920"/>
              <a:ext cx="4226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3691080" y="2168640"/>
              <a:ext cx="512640" cy="8334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4208400" y="2778120"/>
              <a:ext cx="120672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nke</a:t>
              </a:r>
              <a:r>
                <a:rPr b="0" lang="et-EE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>
              <a:off x="4757760" y="3200400"/>
              <a:ext cx="0" cy="4460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Line 13"/>
            <p:cNvSpPr/>
            <p:nvPr/>
          </p:nvSpPr>
          <p:spPr>
            <a:xfrm>
              <a:off x="4757760" y="4191120"/>
              <a:ext cx="0" cy="82692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Rectangle 14"/>
            <p:cNvSpPr/>
            <p:nvPr/>
          </p:nvSpPr>
          <p:spPr>
            <a:xfrm>
              <a:off x="2776680" y="5022720"/>
              <a:ext cx="4340160" cy="7574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Rectangle 15"/>
            <p:cNvSpPr/>
            <p:nvPr/>
          </p:nvSpPr>
          <p:spPr>
            <a:xfrm>
              <a:off x="4147560" y="5175360"/>
              <a:ext cx="123660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16"/>
            <p:cNvSpPr/>
            <p:nvPr/>
          </p:nvSpPr>
          <p:spPr>
            <a:xfrm>
              <a:off x="5581080" y="907920"/>
              <a:ext cx="185544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>
              <a:off x="6512040" y="1371600"/>
              <a:ext cx="0" cy="9032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656640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Rectangle 19"/>
            <p:cNvSpPr/>
            <p:nvPr/>
          </p:nvSpPr>
          <p:spPr>
            <a:xfrm>
              <a:off x="5571360" y="2298240"/>
              <a:ext cx="187200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 flipH="1">
              <a:off x="5213160" y="2895480"/>
              <a:ext cx="766440" cy="1414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21"/>
            <p:cNvSpPr/>
            <p:nvPr/>
          </p:nvSpPr>
          <p:spPr>
            <a:xfrm>
              <a:off x="4928760" y="4565520"/>
              <a:ext cx="10490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o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Rectangle 22"/>
            <p:cNvSpPr/>
            <p:nvPr/>
          </p:nvSpPr>
          <p:spPr>
            <a:xfrm>
              <a:off x="3693960" y="3264840"/>
              <a:ext cx="2126520" cy="129888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.Out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or name of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your command)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6094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Run-time Linking/Lo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374480" y="685800"/>
            <a:ext cx="109332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386000" y="2092320"/>
            <a:ext cx="1066680" cy="5335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86000" y="3540240"/>
            <a:ext cx="1066680" cy="6858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1919160" y="1184400"/>
            <a:ext cx="1800" cy="9079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1919160" y="2631960"/>
            <a:ext cx="1800" cy="9082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205380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2055960" y="2819520"/>
            <a:ext cx="4226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2459160" y="4232160"/>
            <a:ext cx="1288800" cy="9082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973320" y="2590920"/>
            <a:ext cx="9990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4525920" y="3013200"/>
            <a:ext cx="1800" cy="30456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4525920" y="4518000"/>
            <a:ext cx="1800" cy="6350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995480" y="5140440"/>
            <a:ext cx="4343400" cy="76176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3365640" y="5292720"/>
            <a:ext cx="12366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6396120" y="1184400"/>
            <a:ext cx="1440" cy="9079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645444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7"/>
          <p:cNvSpPr/>
          <p:nvPr/>
        </p:nvSpPr>
        <p:spPr>
          <a:xfrm flipH="1">
            <a:off x="4894200" y="2435400"/>
            <a:ext cx="682560" cy="4190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18"/>
          <p:cNvSpPr/>
          <p:nvPr/>
        </p:nvSpPr>
        <p:spPr>
          <a:xfrm>
            <a:off x="4599000" y="4606920"/>
            <a:ext cx="10490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19"/>
          <p:cNvSpPr/>
          <p:nvPr/>
        </p:nvSpPr>
        <p:spPr>
          <a:xfrm>
            <a:off x="6391440" y="2854440"/>
            <a:ext cx="2509200" cy="17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 disk 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up f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ht not need 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20"/>
          <p:cNvSpPr/>
          <p:nvPr/>
        </p:nvSpPr>
        <p:spPr>
          <a:xfrm>
            <a:off x="1611000" y="4302000"/>
            <a:ext cx="13388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-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21"/>
          <p:cNvSpPr/>
          <p:nvPr/>
        </p:nvSpPr>
        <p:spPr>
          <a:xfrm>
            <a:off x="5581800" y="717480"/>
            <a:ext cx="185544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22"/>
          <p:cNvSpPr/>
          <p:nvPr/>
        </p:nvSpPr>
        <p:spPr>
          <a:xfrm>
            <a:off x="5573520" y="2108520"/>
            <a:ext cx="187200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694680" y="3268800"/>
            <a:ext cx="2126520" cy="12988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Ou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or name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r command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ompileerimise faas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911160" y="599760"/>
            <a:ext cx="7767720" cy="312840"/>
            <a:chOff x="911160" y="599760"/>
            <a:chExt cx="7767720" cy="312840"/>
          </a:xfrm>
        </p:grpSpPr>
        <p:sp>
          <p:nvSpPr>
            <p:cNvPr id="159" name="Line 4"/>
            <p:cNvSpPr/>
            <p:nvPr/>
          </p:nvSpPr>
          <p:spPr>
            <a:xfrm>
              <a:off x="911160" y="90648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Line 5"/>
            <p:cNvSpPr/>
            <p:nvPr/>
          </p:nvSpPr>
          <p:spPr>
            <a:xfrm flipV="1">
              <a:off x="8678880" y="59976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133720" y="1093680"/>
            <a:ext cx="4719600" cy="5676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arser ehk süntaksianalüüs: näitesis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Olgu meil programmijup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 b ≠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a &gt;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:= a −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:= b −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911160" y="599760"/>
            <a:ext cx="7767720" cy="312840"/>
            <a:chOff x="911160" y="599760"/>
            <a:chExt cx="7767720" cy="312840"/>
          </a:xfrm>
        </p:grpSpPr>
        <p:sp>
          <p:nvSpPr>
            <p:cNvPr id="165" name="Line 4"/>
            <p:cNvSpPr/>
            <p:nvPr/>
          </p:nvSpPr>
          <p:spPr>
            <a:xfrm>
              <a:off x="911160" y="90648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Line 5"/>
            <p:cNvSpPr/>
            <p:nvPr/>
          </p:nvSpPr>
          <p:spPr>
            <a:xfrm flipV="1">
              <a:off x="8678880" y="59976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arser ehk süntaksianalüüs: süntaksipu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Parser ehit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ällu süntaksipuu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ida siis eda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öödeldak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Group 3"/>
          <p:cNvGrpSpPr/>
          <p:nvPr/>
        </p:nvGrpSpPr>
        <p:grpSpPr>
          <a:xfrm>
            <a:off x="911160" y="599760"/>
            <a:ext cx="7767720" cy="312840"/>
            <a:chOff x="911160" y="599760"/>
            <a:chExt cx="7767720" cy="312840"/>
          </a:xfrm>
        </p:grpSpPr>
        <p:sp>
          <p:nvSpPr>
            <p:cNvPr id="170" name="Line 4"/>
            <p:cNvSpPr/>
            <p:nvPr/>
          </p:nvSpPr>
          <p:spPr>
            <a:xfrm>
              <a:off x="911160" y="90648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5"/>
            <p:cNvSpPr/>
            <p:nvPr/>
          </p:nvSpPr>
          <p:spPr>
            <a:xfrm flipV="1">
              <a:off x="8678880" y="59976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2" name="Picture 1" descr=""/>
          <p:cNvPicPr/>
          <p:nvPr/>
        </p:nvPicPr>
        <p:blipFill>
          <a:blip r:embed="rId1"/>
          <a:stretch/>
        </p:blipFill>
        <p:spPr>
          <a:xfrm>
            <a:off x="2971800" y="1141560"/>
            <a:ext cx="5932440" cy="543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eeldetuletus: puud mäl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iin näitepuus koosneb iga element väärtusest ja kahest mäluaadressist. Null tähistab aadressi 0, mida normaalselt aadressina ei kasut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7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3286080" cy="447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keeles X kirjutatud programmi täidetaks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685800" y="762120"/>
            <a:ext cx="8001000" cy="76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1120" indent="-316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põhivarianti keeles X programmi täitmise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mi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masinkoodis programm nimega kompilaator teisendab keeles X programmi masinkoodfailiks Y. Seejärel täidetakse saadud masinkoodis programm Y. Näi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C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Fortran, G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terpreteerimi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masinkoodis programm nimega interpretaator loeb sisse X keeles faili, teisendab 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nö pseudo-assembleriks / vahekoodiks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asub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ed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hekood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varianti rida-realt täitma. Näited: Python, PHP, Perl, vanemad Javascripti mootorid j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 interpreteerimine on ca 10-200 korda aeglasem, kui kompileeritud koodi täitmi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mõtteliselt saaks igas keeles kirjutatud programme nii interpreteeritult täita kui kompileerid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as eelistatakse vahel interpreteerimist, vahel kompileerimi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914400" y="417600"/>
            <a:ext cx="7767720" cy="312480"/>
            <a:chOff x="914400" y="417600"/>
            <a:chExt cx="7767720" cy="312480"/>
          </a:xfrm>
        </p:grpSpPr>
        <p:sp>
          <p:nvSpPr>
            <p:cNvPr id="182" name="Line 4"/>
            <p:cNvSpPr/>
            <p:nvPr/>
          </p:nvSpPr>
          <p:spPr>
            <a:xfrm>
              <a:off x="914400" y="7236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 flipV="1">
              <a:off x="8682120" y="4176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ahekood Pythoni näi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685800" y="762120"/>
            <a:ext cx="8001000" cy="76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Olgu meil väike näiteprogram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 = 1,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a or b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Hello",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914400" y="417600"/>
            <a:ext cx="7767720" cy="312480"/>
            <a:chOff x="914400" y="417600"/>
            <a:chExt cx="7767720" cy="312480"/>
          </a:xfrm>
        </p:grpSpPr>
        <p:sp>
          <p:nvSpPr>
            <p:cNvPr id="187" name="Line 4"/>
            <p:cNvSpPr/>
            <p:nvPr/>
          </p:nvSpPr>
          <p:spPr>
            <a:xfrm>
              <a:off x="914400" y="7236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5"/>
            <p:cNvSpPr/>
            <p:nvPr/>
          </p:nvSpPr>
          <p:spPr>
            <a:xfrm flipV="1">
              <a:off x="8682120" y="4176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ahekood Pythoni näi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685800" y="762120"/>
            <a:ext cx="8001000" cy="76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hekood kommentaarid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ode   6404005c02005a00005a0100650000700700016501006f0d00016402004765000047486e010001640300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           0 LOAD_CONST               4 ((1, 0)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 UNPACK_SEQUENCE          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6 STORE_NAME               0 (a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9 STORE_NAME               1 (b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          12 LOAD_NAME                0 (a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5 JUMP_IF_TRUE             7 (to 25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8 POP_TO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 LOAD_NAME                1 (b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 JUMP_IF_FALSE           13 (to 38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gt;&gt;   25 POP_TO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          26 LOAD_CONST               2 ('Hello'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9 PRINT_ITE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0 LOAD_NAME                0 (a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3 PRINT_ITE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4 PRINT_NEWLIN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5 JUMP_FORWARD             1 (to 39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gt;&gt;   38 POP_TO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gt;&gt;   39 LOAD_CONST               3 (None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42 RETURN_VALU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914400" y="417600"/>
            <a:ext cx="7767720" cy="312480"/>
            <a:chOff x="914400" y="417600"/>
            <a:chExt cx="7767720" cy="312480"/>
          </a:xfrm>
        </p:grpSpPr>
        <p:sp>
          <p:nvSpPr>
            <p:cNvPr id="192" name="Line 4"/>
            <p:cNvSpPr/>
            <p:nvPr/>
          </p:nvSpPr>
          <p:spPr>
            <a:xfrm>
              <a:off x="914400" y="7236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 flipV="1">
              <a:off x="8682120" y="4176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levaade loen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838080" y="762120"/>
            <a:ext cx="7848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Meeldetuletus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eelmis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test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loengu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test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: protsessor ja assembler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ja andmestruktuu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Assembler ja C keel ja kompileerimine ja linkimine ja käivita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ompileerimine vs interpreteer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Esimesed kolm programmeerimiskee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ogrammeerimiskeel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te suur pi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Populaars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eelte põhiideed ja nä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iir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57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keeles X kirjutatud programmi täidetaks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1200" indent="-3265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Interpreteerimise k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mpromissvaria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ndid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kompileerib X fail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hekoodi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Y, seejärel interpreteeritakse vahekoodi Y (Python, Java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pretaator interpreteerib vahekoodi Y, kuid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b töö ajal osa Y-st masinkoodi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seejärel täidab (Java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C#, Firefoxi Javascrip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 nn just-in-time compilation ehk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I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Chrome V8 Javascript kompileerib algul kogu programmi masinkoodiks kiire kompilaatoriga, seejärel kompileerib töö käigus selgunud kriitilised kohad aeglasema optimeeriva kompilaatoriga, mis annab kiiremini töötava tulemus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Group 3"/>
          <p:cNvGrpSpPr/>
          <p:nvPr/>
        </p:nvGrpSpPr>
        <p:grpSpPr>
          <a:xfrm>
            <a:off x="911160" y="599760"/>
            <a:ext cx="7767720" cy="312840"/>
            <a:chOff x="911160" y="599760"/>
            <a:chExt cx="7767720" cy="312840"/>
          </a:xfrm>
        </p:grpSpPr>
        <p:sp>
          <p:nvSpPr>
            <p:cNvPr id="197" name="Line 4"/>
            <p:cNvSpPr/>
            <p:nvPr/>
          </p:nvSpPr>
          <p:spPr>
            <a:xfrm>
              <a:off x="911160" y="90648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Line 5"/>
            <p:cNvSpPr/>
            <p:nvPr/>
          </p:nvSpPr>
          <p:spPr>
            <a:xfrm flipV="1">
              <a:off x="8678880" y="59976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rogramming and description langu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gramming language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, in the familiar sens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ortran, C, Java, C#, Python, Javascript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716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Description language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.e.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ot for programming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xt layout: 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 layout nuances: c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base query tasks: SQ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 representation: XM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json, cs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et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914400" y="456840"/>
            <a:ext cx="7767720" cy="312840"/>
            <a:chOff x="914400" y="456840"/>
            <a:chExt cx="7767720" cy="312840"/>
          </a:xfrm>
        </p:grpSpPr>
        <p:sp>
          <p:nvSpPr>
            <p:cNvPr id="202" name="Line 4"/>
            <p:cNvSpPr/>
            <p:nvPr/>
          </p:nvSpPr>
          <p:spPr>
            <a:xfrm>
              <a:off x="914400" y="76356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Line 5"/>
            <p:cNvSpPr/>
            <p:nvPr/>
          </p:nvSpPr>
          <p:spPr>
            <a:xfrm flipV="1">
              <a:off x="8682120" y="45684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s nii palju keeli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ri valdkondade / eesmärkide jaoks ei ole ühte ideaalset kee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ogrammeerijate eelistused on erinev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aata ka DSL (domain specific language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s://en.wikipedia.org/wiki/Domain-specific_langu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07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eelte erisused: kolm põhias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üntak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kuidas kirjutatakse näitek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f .. then .. el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ühes või teises keeles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emantik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ehk tähendus (mida õigesti kirjutatud programm tegelikult siis teeb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egid (libraries)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millised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almisprogrammijup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 selle keele jaoks kergesti kättesaadavad või kohe kaasa pandud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12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eeled: tüüpilised asjad, mida pea iga keel paku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838080" y="762120"/>
            <a:ext cx="784872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imitiivsed andmetüüb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, char etc (näiteks: 1 ja –3 on int-id, ‘c’ ja ‘a’ on char-id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ring  (näiteks “aaa123bb”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siiv  (näiteks a[1]=2; a[2]=20; a[3]=15;  y=2; x=a[y]+a[1]+3;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valdis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ks x = (y*2) – (5+x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mentaarsed juhtkonstruktsioon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lik:  if ... then ... el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sükkel:   while(x&lt;10)  x=x+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unktsioon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fineerime:  int kuup(int x) { return x * x * x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utame:  x = kuup(1+kuup(3))+kuup(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utame rekursiivsel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fact(int x) { if (x&lt;=0) return 1; else return x*(fact(x-1));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825480" y="456840"/>
            <a:ext cx="7767720" cy="312840"/>
            <a:chOff x="825480" y="456840"/>
            <a:chExt cx="7767720" cy="312840"/>
          </a:xfrm>
        </p:grpSpPr>
        <p:sp>
          <p:nvSpPr>
            <p:cNvPr id="217" name="Line 4"/>
            <p:cNvSpPr/>
            <p:nvPr/>
          </p:nvSpPr>
          <p:spPr>
            <a:xfrm>
              <a:off x="825480" y="76356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5"/>
            <p:cNvSpPr/>
            <p:nvPr/>
          </p:nvSpPr>
          <p:spPr>
            <a:xfrm flipV="1">
              <a:off x="8593200" y="45684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eeled: näited lisavõimalustest eri keel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838080" y="762120"/>
            <a:ext cx="7848720" cy="80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ired bitioperatsioonid, otsepöördumine mälu kallale: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eerulisemad andmetüübid: listid, hash tabelid jne: Lisp, Python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, Javascrip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rikonstruktsioonid stringitöötluseks: Perl, PH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bjektid: C++, Java, C#, Python, Lis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oodulid (enamasti ühendatud objektidega): C++, Java, C#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eatöötluse konstruktsioonid (exceptions): Python, Java, C#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rahikoristus: kasutamata andmed visatakse välja (Java, Python, Lisp,  ...)</a:t>
            </a:r>
            <a:r>
              <a:rPr b="0" lang="ar-SA" sz="16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isse-ehitatud tugi paralleelprogrammide jaoks: Java, C#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eaalaja-erivahendid: 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mplates” (programm tulemuse sees): PHP, JSP, Py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ute programmide konstrueerimine töö käigus: Lisp, Scheme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, Javascrip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ogikareeglid: Prolo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aisk” viis funktsioone arvutada: Miranda, Hope, Haske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attern matching (viis funktsioone defineerida): ML, Haske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jne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22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tran: summeeri arve 0…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TRA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EGER FUNCTI0N sumto(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um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O i 10 = 0,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um = i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0 CONTINU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 = is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27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BOL: summeeri arve 0…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228600" y="762120"/>
            <a:ext cx="8458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B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 USING N, Answ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.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FORM VARYING LoopCount FROM 0 BY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TIL LoopCount GREATER THAN N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ULTIPLY Answer BY LoopCount GIVING Answe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-PERFOR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XIT PROGRA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32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ISP: summeeri arve 0…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defun sumto (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= 0 n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+ n (sumto (­ n 1))) )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37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 (ja C++ ja Java ja C#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sumto(int n)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i,sum = 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(i=0; i&lt;=n; i=i+1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= sum + i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;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42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7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eie näiteprogramm: summeerime arve 1 ....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int argc, char **argv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=1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,sum=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Tere!\n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=0; i&lt;=n; i=i+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sum + 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umma on %d\n",sum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62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Modula-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dula-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(n:INTEGER)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 sum,i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:=0 TO n 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sum+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sumt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47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Modula-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dula-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(n:INTEGER)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 sum,i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:=0 TO n 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sum+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sumt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52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Ad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unction sumto(n: in INTEGER) return INTEGER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: INTEGER := 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 in 0..n loo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:= sum + i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loop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57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Pyth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yth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ef sumto(n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=0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 in range(n+1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=sum+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Group 3"/>
          <p:cNvGrpSpPr/>
          <p:nvPr/>
        </p:nvGrpSpPr>
        <p:grpSpPr>
          <a:xfrm>
            <a:off x="914400" y="456840"/>
            <a:ext cx="7767720" cy="312840"/>
            <a:chOff x="914400" y="456840"/>
            <a:chExt cx="7767720" cy="312840"/>
          </a:xfrm>
        </p:grpSpPr>
        <p:sp>
          <p:nvSpPr>
            <p:cNvPr id="262" name="Line 4"/>
            <p:cNvSpPr/>
            <p:nvPr/>
          </p:nvSpPr>
          <p:spPr>
            <a:xfrm>
              <a:off x="914400" y="76356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Line 5"/>
            <p:cNvSpPr/>
            <p:nvPr/>
          </p:nvSpPr>
          <p:spPr>
            <a:xfrm flipV="1">
              <a:off x="8682120" y="45684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ythoni vahekood: keerukamat lisalugem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s://nedbatchelder.com/blog/200804/the_structure_of_pyc_file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infohost.nmt.edu/tcc/soft/pythondoc/lib/bytecode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s://www.python.org/dev/peps/pep-0339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s://arxiv.org/pdf/1306.6047v2.pd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911160" y="599760"/>
            <a:ext cx="7767720" cy="312840"/>
            <a:chOff x="911160" y="599760"/>
            <a:chExt cx="7767720" cy="312840"/>
          </a:xfrm>
        </p:grpSpPr>
        <p:sp>
          <p:nvSpPr>
            <p:cNvPr id="267" name="Line 4"/>
            <p:cNvSpPr/>
            <p:nvPr/>
          </p:nvSpPr>
          <p:spPr>
            <a:xfrm>
              <a:off x="911160" y="90648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Line 5"/>
            <p:cNvSpPr/>
            <p:nvPr/>
          </p:nvSpPr>
          <p:spPr>
            <a:xfrm flipV="1">
              <a:off x="8678880" y="59976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Intel 386, 486, Pentium, 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86 on vähe registreid, argument saadetakse hariliku mälu kaudu. Resultaat saadetakse registris %edx.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shl %ebp         ; Loome ''framepointer’’-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%esp,%ebp    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8(%ebp),%ecx ; Võta 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ax,%eax    ; sum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dx,%edx    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ax    ; Kui i&gt;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g L3              ; ...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align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l  %edx,%eax    ; sum = 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l  %edx         ; i = i+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dx    ; Kui i&lt;=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le L5             ; ...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leave              ; Taasta ebp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                ; Valmis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67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RMil on 16 registrit r0, ..., r15, kuid osa neist on eritähendusega (näiteks, r15 on program coun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nt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mov r1, #0 </a:t>
            </a: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MOV r6, #0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 sum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mov r2, #0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</a:t>
            </a: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dr r3, N           ; r3=N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 ; Load the first n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cmp r3, r2          ; eeldame r3=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bgt finish          ; kui n&gt;i, mine finis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dd r2, r2, #1      ;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 = i +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dd r1, r1, r2      ; sum = sum +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B loop              ; uus tsükkel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finish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N      DCD  #1000          ; mälupesa N algväärtusega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72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Uurime C kompilaator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õtame eelmise 0 ... N summa näite C keeles ja vaatame, mida kompilaator tee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77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rogrammeerimiskeeled on inimeste jaok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Arvuti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ei saa programmeerimiskeelest midagi aru. Talle on vaja masinkood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Programmeerimiskeeled on selleks, et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inimestel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oleks lihtsam programme kirjutada ja nendest pärast aru sa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3"/>
          <p:cNvGrpSpPr/>
          <p:nvPr/>
        </p:nvGrpSpPr>
        <p:grpSpPr>
          <a:xfrm>
            <a:off x="914400" y="456840"/>
            <a:ext cx="7767720" cy="312840"/>
            <a:chOff x="914400" y="456840"/>
            <a:chExt cx="7767720" cy="312840"/>
          </a:xfrm>
        </p:grpSpPr>
        <p:sp>
          <p:nvSpPr>
            <p:cNvPr id="82" name="Line 4"/>
            <p:cNvSpPr/>
            <p:nvPr/>
          </p:nvSpPr>
          <p:spPr>
            <a:xfrm>
              <a:off x="914400" y="76356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Line 5"/>
            <p:cNvSpPr/>
            <p:nvPr/>
          </p:nvSpPr>
          <p:spPr>
            <a:xfrm flipV="1">
              <a:off x="8682120" y="45684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õrgkeeled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838080" y="762120"/>
            <a:ext cx="7848720" cy="56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utomatiseerivad ja lihtsustavad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 “harilikke” protseduure, mida assembleris programmeerides va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anna assembleriga analoogilist kontrolli masina ü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keeled on erineva abstraktsusastmeg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ähedane ja ebamugav:  Fortran, C  (portaabel assembler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bstraktsem ja mugavam:  Lisp, Ada, ML, Java, Python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520" indent="-3265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eale programmeerimiskeelte on veel hulk muid keel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520" indent="-3265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keeled (SQL, RDQL, ....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junduskeeled (HTML, PS, ...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etsifitseerimiskeeled (loogikakeeled, UML, ....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87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838080" y="380880"/>
            <a:ext cx="7767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ileeritava programmi valm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457200" y="1217520"/>
            <a:ext cx="822492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marL="297720" indent="-2937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gu meil (näiteks C keeles) failid main.c ja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7720" indent="-2937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me gcc main.c swap.c -o minuprogram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7720" indent="-2937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7720" indent="-2937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(näiteks gcc) teeb järjest mitut eri asj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7720" indent="-2937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7720" indent="-2937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9440" indent="-2426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teeb neist assemblerikeelsed ajutised fail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9440" indent="-2426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teeb assemblerfailidest masinkood+sümbolinfo fail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9440" indent="-2426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7720" indent="-2937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nk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9440" indent="-2426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kur otsib kokku vajalikud olemasolevad failid osa sümbolinfo seostamiseks päris koodi-viide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7720" indent="-2937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7720" indent="-2937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ivitame saadud programmifaili minuprogram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7720" indent="-2937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ad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tsib lisaks vajalikud olemasolevad failid osa sümbolinfo seostamiseks päris koodi-viide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7720" indent="-2937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ud kogum paigutatakse mällu, tehakse opsüsteemi infoblokk tema jaoks (protsess) ja kogum käivitataks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7-10-19T04:54:15Z</dcterms:modified>
  <cp:revision>42</cp:revision>
  <dc:subject/>
  <dc:title>PowerPoint Presentation</dc:title>
</cp:coreProperties>
</file>